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3.wmf" ContentType="image/x-wmf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4C7-8980-406C-AD2F-8059FC612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F09-5FB5-41C1-A1CA-513BDE4D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B13-07E6-44D0-8925-7FB367B4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51F-E814-4865-8607-7D91F4DD6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4B3-57DA-434E-9C77-CA728497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F51-9163-4041-9162-2B76DDF5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4AA4-6A2B-4D00-ABE6-F1F97111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7CEA-FA5C-427D-8688-E5FF211A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BC3-D4F0-4A76-8F10-42C78F79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E91-70F3-484C-B5DE-9C84412B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B766-DC08-4672-9F9A-BB83C8E9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9F6-A613-4AD2-A50E-79D6E430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44F3-4283-4271-9D07-13E03F66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573-14CB-4F20-9692-FF418E97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64D-F840-460F-92B3-898E6371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C80-6BF6-4CD2-8FEE-91C53C08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271-E1CE-42DB-AB63-F87685BC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EC7-E422-4853-A127-5266CC44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BBF2-B400-4844-8B39-D3C3C223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4BD-55E1-46EA-A72D-E9B7C88D2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7A0C-61DB-497E-8A24-8EE6BC99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544-C0B6-4B9A-81CF-AC484B24B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5262-ACFB-4A27-9E1C-A3335434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0BE-C901-48EE-8BEA-C9CD2B71F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549-D4ED-4FD2-A940-3C3D2D6B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805E-A907-49B7-A9D9-101BAC54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DF22-428B-4416-BCD9-DBC913DE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4499-EAF1-4922-90F2-439F8792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89E7-BB80-4E85-8701-67D3CBAE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575-AD2A-4E18-83A5-18E694A8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4C9-3981-4EE1-953F-58BE8606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E38-3CF7-478D-A800-D235F5AC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553-12D7-4037-BACA-1D6A7777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673-7824-49A1-9445-26DCE68D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B8D-D94F-4D7C-B6B5-AB36D6A8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B1B-CC6F-469F-A193-85A9E41D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3C3-7DF1-4D07-BAF4-3F80735CF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B53-C903-48A1-A969-54ACB5C0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460C-1E51-48A1-9427-240E62B7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328-58DD-443D-8749-2EA5FD64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DF0-74E9-4604-AA71-90C89478E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71C6-5F43-4F45-BF93-B0FE1279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4F2-ACE0-4EF2-845E-BE23DEBD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38D-0D54-47FA-93A6-E7663804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F3C-40C3-4E04-8413-4B2142ED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678-C588-418A-B73E-AF85799B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1FC-9F9A-405B-98F1-173B3FB1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541-B654-4366-917D-A796D60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153-A333-4EB6-93DA-1EE5A75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9C8-676B-4D6C-8AE9-1D2E7F98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656-4F4A-42D1-8366-4D42571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BBB-95F1-42F1-8CD0-1994BF8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579-1507-4D31-9CBA-F94903A1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D6E-686D-4F5C-9A82-1AFA0C2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284-3D9F-444E-9910-9F6572D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4B3-C3D2-4285-959A-19A267983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eekend with Elaine Aron for Highly Sensitive People”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ipalu, May 30 – June 1, 2014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hour presentation on research, morning, May 31)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sory Processing Sensitivity: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ate of the Model</a:t>
            </a:r>
            <a:br>
              <a:rPr sz="3200"/>
            </a:b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right Elaine N. Aron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"For Bette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se" Inter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elsky &amp; Pluess, 2009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previous widely-held assumption incorrec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is NOT only a vulnerabil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analysis resul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sensitivity indicators:  behavioral, genetic, physiological reactivity, HSP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right conditions, sensitivity is an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hypothesi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as a genet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reproductive advantage to parents who have some children who are responsive, others who are not, as one type will thrive if no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ntage Sensitivity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ess &amp; Belsky (2012, after Manuck,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general rather than specific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tage resistance and resilience (protective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first study: Suomi (1997), “up tight” rhesus monkeys assigned skilled mothering = leaders of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Vantage 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CHD: “difficult infants,” high quality care = better grades, social skills at 11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 resilence-promoting intervention, only benefited upper 1/3 on HSP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al responsiveness = moral internalization only with ss all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: Rumanian orphan infants randomly assigned to skilled foster care: only those with ss allele benefited at 54 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ults: ss allele.  Better marriage. Positive life events = more life satisfaction, low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y visual search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standard visual search task, SPS associated with better performance (faster response time and fewer errors), followed by increased perceived st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rstenberg, 20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5439" t="32983" r="73513" b="49950"/>
          <a:stretch/>
        </p:blipFill>
        <p:spPr>
          <a:xfrm>
            <a:off x="284040" y="3809880"/>
            <a:ext cx="85010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380880" y="3200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s with HSP Sc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rolling for N &amp;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to emotio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 associated with stronger, faster, more positive response to both positive and negative ima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agiellowicz, Aron, &amp; Aron, in pr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Pos18.bmp"/>
          <p:cNvPicPr/>
          <p:nvPr/>
        </p:nvPicPr>
        <p:blipFill>
          <a:blip r:embed="rId1"/>
          <a:stretch/>
        </p:blipFill>
        <p:spPr>
          <a:xfrm>
            <a:off x="6324480" y="1066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2" name="Graphique 1" descr=""/>
          <p:cNvPicPr/>
          <p:nvPr/>
        </p:nvPicPr>
        <p:blipFill>
          <a:blip r:embed="rId2"/>
          <a:srcRect l="9706" t="0" r="14641" b="7282"/>
          <a:stretch/>
        </p:blipFill>
        <p:spPr>
          <a:xfrm>
            <a:off x="228600" y="2438280"/>
            <a:ext cx="510552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3124080" y="54864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neu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Graphique 1" descr=""/>
          <p:cNvPicPr/>
          <p:nvPr/>
        </p:nvPicPr>
        <p:blipFill>
          <a:blip r:embed="rId3"/>
          <a:srcRect l="86230" t="42866" r="1134" b="43529"/>
          <a:stretch/>
        </p:blipFill>
        <p:spPr>
          <a:xfrm>
            <a:off x="2438280" y="31240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4"/>
          <a:srcRect l="0" t="11364" r="60144" b="3342"/>
          <a:stretch/>
        </p:blipFill>
        <p:spPr>
          <a:xfrm>
            <a:off x="5638680" y="2743200"/>
            <a:ext cx="3062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re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tivation making fine visual disti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icz et al.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on of cultural differences in brain response during visual judgment 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on et al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both sad and happy emotional states of others especially in insula and mirror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cevedo et al., in 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positive and negative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ciz, 201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re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re activation making fine visual distinction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Jagiellowicz et al.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on of cultural differences in brain response during visual judgment 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on et al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both sad and happy emotional states of others especially in insula and mirror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cevedo et al., in 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positive and negative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ciz, 201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lenmorristreehay1"/>
          <p:cNvPicPr/>
          <p:nvPr/>
        </p:nvPicPr>
        <p:blipFill>
          <a:blip r:embed="rId1"/>
          <a:stretch/>
        </p:blipFill>
        <p:spPr>
          <a:xfrm>
            <a:off x="-647640" y="0"/>
            <a:ext cx="1043928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lenmorristreehay2"/>
          <p:cNvPicPr/>
          <p:nvPr/>
        </p:nvPicPr>
        <p:blipFill>
          <a:blip r:embed="rId1"/>
          <a:stretch/>
        </p:blipFill>
        <p:spPr>
          <a:xfrm>
            <a:off x="0" y="0"/>
            <a:ext cx="1043928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armhouselondon11"/>
          <p:cNvPicPr/>
          <p:nvPr/>
        </p:nvPicPr>
        <p:blipFill>
          <a:blip r:embed="rId1"/>
          <a:stretch/>
        </p:blipFill>
        <p:spPr>
          <a:xfrm>
            <a:off x="239400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w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trategi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r 100 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olf et al. 2009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it once and do it right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for it; if wrong, go for it agai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, reflective, reactive,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responsive, impulsive, low reactivity, non-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Activ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vs. Major Scen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P Scale scores correlated with greater activation in response to minor changes (vs. major changes)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visu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ssociation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-motor coordination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remain (and stronger) controlling for neuroticism and extra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409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ft middle temporal gyru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I: –52, 56, 6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S residual association for minor &gt; maj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715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MRI SPS and Subtle Processing 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udy to examine direct correlates of SPS with neural activity in relation to a relevant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the existence of this adult temperamental trait at a very basic neurolog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lend support to the model that this individual difference moderates brain response to processing senso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locations of brain systems engaged tentatively suggest that sensory processing sensitivity mod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visual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to the autonomic nervous system/emotional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re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tivation making fine visual disti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icz et al.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deration of cultural differences in brain response during visual judgment task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ron et al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both sad and happy emotional states of others especially in insula and mirror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cevedo et al., in 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positive and negative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ciz, 201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from many previous stu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dependent cultures (e.g., East Asians) perform better incorporating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cultures (e.g., Americans) perform better ignoring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pplies to both social relations and simple perceptual jud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&amp; Brain Response to Basic Visual Judg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sych 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East Asians recently in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Americans of European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RI scan while making judgments of size of line in a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udg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ve 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attending to context (box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udg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lute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ignor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ethod"/>
          <p:cNvPicPr/>
          <p:nvPr/>
        </p:nvPicPr>
        <p:blipFill>
          <a:blip r:embed="rId1"/>
          <a:stretch/>
        </p:blipFill>
        <p:spPr>
          <a:xfrm>
            <a:off x="1676520" y="3886200"/>
            <a:ext cx="5562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&amp; Brain Response to Basic Visual Judg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sych 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ain system (from parietal regions) known to be engaged during attentionally demanding mental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as more active for East Asians during judgments ignor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as more active for Americans during judgments attending to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1252" t="34003" r="14375" b="32000"/>
          <a:stretch/>
        </p:blipFill>
        <p:spPr>
          <a:xfrm>
            <a:off x="1066680" y="3278160"/>
            <a:ext cx="66294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 to S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othe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ghly sensitive individuals, because they process information more deeply, should be less affected by cultur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28600" y="1676520"/>
          <a:ext cx="853452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w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 research 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 f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ters vs. rovers, neur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seed sunf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 vs. timid; or responsive vs. not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ight vs. laid back, actually more and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0" y="1660680"/>
          <a:ext cx="91440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0680"/>
                    <a:ext cx="9144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6477120" y="5715000"/>
          <a:ext cx="1904760" cy="83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571500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MRI Culture Study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nsistent with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ighly sensitive individuals showed little difference as a function of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w-sensitives showed strong cultur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tern remained strong and signif  controlling for negative affectivity, introversion, gender, and individual differences in cultural identity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SPS moderates brain response to basic sensory information, including overcoming normative cultural bi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re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tivation making fine visual disti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icz et al.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on of cultural differences in brain response during visual judgment 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on et al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eater neural response to both sad and happy emotional states of others especially in insula and mirror neuron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Acevedo et al., in 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positive and negative im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ciz, 201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ater neural response to both happy and sad emotional state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newly married individuals scanned while viewing photos of partner and of strangers displaying positive, negative, or neutral facial expre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 associated with stronger neural activation in response to others’ positive and negative emotional expressions (vs. neutral expressions) in regions involved in awareness, empathy, unconscious preparation to act, and meaning-making (e.g., premotor area, cingulate, AI, IFG, and MT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especially strong for partners and to positive stimuli in regions involved in empathy, awareness, self-other processing, and re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SPS_NEWLYWEDS_FIG1_6-07"/>
          <p:cNvPicPr/>
          <p:nvPr/>
        </p:nvPicPr>
        <p:blipFill>
          <a:blip r:embed="rId1"/>
          <a:srcRect l="0" t="4483" r="47903" b="67289"/>
          <a:stretch/>
        </p:blipFill>
        <p:spPr>
          <a:xfrm>
            <a:off x="1447920" y="50292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PS_NEWLYWEDS_FIG1_6-07"/>
          <p:cNvPicPr/>
          <p:nvPr/>
        </p:nvPicPr>
        <p:blipFill>
          <a:blip r:embed="rId2"/>
          <a:srcRect l="0" t="72172" r="48727" b="0"/>
          <a:stretch/>
        </p:blipFill>
        <p:spPr>
          <a:xfrm>
            <a:off x="5257800" y="502920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627120" y="464832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Happy-versus-Stranger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437000" y="464832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Sad-versus-Stranger Sad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re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tivation making fine visual disti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giellowicz et al.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on of cultural differences in brain response during visual judgment 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on et al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neural response to both sad and happy emotional states of others especially in insula and mirror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cevedo et al., in pr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in and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eater neural response to positive and negative imag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Jagiellowciz, 2012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to positive &amp; negative imag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low SPS, high SPS (controlling for E and 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ctivation of emotional processing areas (but not amygd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ctivation for positive pictures (in basal ganglia), much like what is typically found for extra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laborated perceptual processing generally (replicating previous stu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more positive appraisal of incoming stimuli may partially motivate elaborated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rrelate: Seroto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types of genetic variation:  5-HTTLPR short/short, short/long, and long/long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/s inconsistently associated with negative affect, esp.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nsistent results may be due to those with ss allele who had good childhood environments were not depressed and may have had better mental health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ed with SPS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cht, Mortensen, Arentzen, Norremolle, &amp; Knudsen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8 healthy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HTTLP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otype was associated SPS, controlling for age, gender, psychological distress, and Neuroticism.  Relationship strengthened with inclusion of Openness to Experience and Extraversion were include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gnificantly associated with Neuroticism and Harm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5-HTTLPR/rs2553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otypes also associated with 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Understanding of Serotonin s/s and s/l g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variable in for better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-worse meta-analysis and vantage sensitivity (Pluess &amp; Bels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found surprising “superior performance on an array of cognitive tasks” (Homberg &amp; Le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ore responsive to negative valenced words, as thought (Roiser, Rogers, Cook, &amp; Sahakia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gambling decisions—more responsive to opportunities and risk (perception plus emotion; Roiser, Rogers, Cook, &amp; Sahakia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ensitive to social cues (Taylor et al, 2006, benefit more from so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-culture fMRI result also true for s/s allele subjects (Kim et al, 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otonin Studies with Rhesus Mon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y other primate species with this allele (s/s and l/l onl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milar “broadly superior performance” on a variety of decision-making tasks (Jedema, et al., 200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cross fostered and raised by skilled mothers, “reactive” monkeys showed developmental precocity, behavioral resilience to stress, and ascension within the group’s dominance hierarchy (Suomi, 199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explain ability, similar to humans, to adapt to widely varied environ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egative Frequency Dependent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olf et al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 minority because no advantage if everyone were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 No advantage to a short cut through traffic if everyone us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rrelate: Dop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iously unexpected low association of personality traits with genetic variations given twin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n et al. studied all 98 genes with dopamine polymorph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se SPS because it seems “deeply rooted in the nervous syste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loci on 7 genes yielded expected levels trait-genetic assoc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lleles effective only through interacting with others in the set; little known about these all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tudie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tic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asily bored (Aron, Aron, Jagiellowicz &amp; Tomlinson,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sexual behavior (ex., less interest in variety, fewer bad experiences; Aron, 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ive home as more chaotic (Wachs, 20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selves as more creative, stressed (Aron &amp; Aron, in pre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Place (analysis not controlling for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ffected by stress (Evers, Rasche, &amp; Schabracq, 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well being, but supervisors rated their performance higher (Bhavani,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SP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S moderates effects of childhood environment (and other stressors) on negative aff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and genetic corre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Development of the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introver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infant temperamen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anim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need for a new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ensitive Person (HSP)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ly a Category, Not a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xometric analy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continuous from categorical variables. Using this meth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odward et al. (2000) found the related trait of “reactivity” assessed in sample of 599 four-month-old infants to be categorical applying to about 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rries (2012), using multiple analysis methods with the HSP Scale in a large diverse sample of German adults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 898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36),  converged on 15-20% were HSPs. Borries conclusi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s exist, forming an independent group of people who are qualitatively distinct from all the others concerning their way to perceive and process stimu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tative Moderation Mod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066680" y="1905120"/>
          <a:ext cx="6477120" cy="18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477120" cy="18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4"/>
          <p:cNvGraphicFramePr/>
          <p:nvPr/>
        </p:nvGraphicFramePr>
        <p:xfrm>
          <a:off x="1066680" y="4114800"/>
          <a:ext cx="64389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14800"/>
                    <a:ext cx="6438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68421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20640" y="58276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P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61960" y="213372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Sensiti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09320" y="419112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ighly Sensiti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Supporting Evidence for Moderatio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SPB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0" y="1447920"/>
          <a:ext cx="44956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495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4"/>
          <p:cNvSpPr/>
          <p:nvPr/>
        </p:nvSpPr>
        <p:spPr>
          <a:xfrm>
            <a:off x="76201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4495680" y="1600200"/>
          <a:ext cx="4534200" cy="40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600200"/>
                    <a:ext cx="453420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380880" y="57150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Any negative bias by HSPs in recall of childhood environment would lead to opposite effects of those found here.  (That is, high NA HSPs are  actually report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erse childhoods than equally high NA nonHSP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Experimental Evid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SPB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 HSP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leted supposed standard questionnai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&amp; end assessed negative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ddle, either very easy or very difficult “Applied Reasoning Ability”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4114800" y="1828800"/>
          <a:ext cx="480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80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52:42Z</dcterms:created>
  <dc:creator>Arthur Aron</dc:creator>
  <dc:description/>
  <dc:language>en-US</dc:language>
  <cp:lastModifiedBy>Richard Kellogg</cp:lastModifiedBy>
  <dcterms:modified xsi:type="dcterms:W3CDTF">2014-06-15T21:14:12Z</dcterms:modified>
  <cp:revision>71</cp:revision>
  <dc:subject/>
  <dc:title>Slide 1</dc:title>
</cp:coreProperties>
</file>